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13200"/>
            <a:ext cx="3124080" cy="244440"/>
          </a:xfrm>
          <a:prstGeom prst="rect">
            <a:avLst/>
          </a:prstGeom>
          <a:solidFill>
            <a:srgbClr val="0056ac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Prior (for the SPL study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613200"/>
            <a:ext cx="3429000" cy="244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PL-based Proton Driver for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611760"/>
            <a:ext cx="2743200" cy="246240"/>
          </a:xfrm>
          <a:prstGeom prst="rect">
            <a:avLst/>
          </a:prstGeom>
          <a:solidFill>
            <a:srgbClr val="c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19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meeting, 23-25.1.06     (</a:t>
            </a:r>
            <a:fld id="{9CA46F62-66EC-4F59-A8DD-EB283142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c"/>
            </a:gs>
            <a:gs pos="100000">
              <a:srgbClr val="d9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SPL-based Proton Driver for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Symbol"/>
                <a:ea typeface="Symbol"/>
              </a:rPr>
              <a:t></a:t>
            </a: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 Facilities at CERN: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Updated Description</a:t>
            </a:r>
            <a:endParaRPr b="0" lang="en-US" sz="44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R. Prior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Garoby, F. Gerigk and the SPL stud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 meeting, 23-25.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90720" y="1066680"/>
          <a:ext cx="6324480" cy="4397400"/>
        </p:xfrm>
        <a:graphic>
          <a:graphicData uri="http://schemas.openxmlformats.org/drawingml/2006/table">
            <a:tbl>
              <a:tblPr/>
              <a:tblGrid>
                <a:gridCol w="3170160"/>
                <a:gridCol w="903240"/>
                <a:gridCol w="1432080"/>
                <a:gridCol w="819000"/>
              </a:tblGrid>
              <a:tr h="47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0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D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2006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beam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ryogenics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uls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ulse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duty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352.2 MHz klystrons (1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704.4 MHz klystrons (5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tetr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19920" y="156204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40668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6561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593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019560" y="20826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019560" y="2347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6019560" y="26222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019560" y="314316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019560" y="3938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019560" y="42033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6019560" y="5209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3560" y="5827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fter c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4. 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1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828800"/>
            <a:ext cx="411480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beta-beam b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3.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67652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ong beam burst (~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irect use of lina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800600"/>
            <a:ext cx="411480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a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beam @ 4-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74320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114800"/>
            <a:ext cx="3429000" cy="1648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unches (~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6668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7242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5345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hysics, the time structure of the linac beam has to be chan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1920" y="5940360"/>
            <a:ext cx="65937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equirements of a </a:t>
            </a:r>
            <a:r>
              <a:rPr b="0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factory are the most dem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2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362320"/>
          <a:ext cx="6400800" cy="2190600"/>
        </p:xfrm>
        <a:graphic>
          <a:graphicData uri="http://schemas.openxmlformats.org/drawingml/2006/table">
            <a:tbl>
              <a:tblPr/>
              <a:tblGrid>
                <a:gridCol w="358164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m power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~ 4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– 10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2 ns 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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3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327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5238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s required by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actor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280" y="563868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As estimated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3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for a linac-base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st increases with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T (&lt; 4 – 8 ?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o a minimum number of protons/pulse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ergy acceptance + longitudinal space charge restrict to low 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um number of bunches (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cumulator circumference C is proportional to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Laslett tune shift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is proportional t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to minimiz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&amp;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he highest value of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523880"/>
          <a:ext cx="5943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943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1 (2000): severe constraint due to the low beam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553080" y="2362320"/>
          <a:ext cx="2133720" cy="3479760"/>
        </p:xfrm>
        <a:graphic>
          <a:graphicData uri="http://schemas.openxmlformats.org/drawingml/2006/table">
            <a:tbl>
              <a:tblPr/>
              <a:tblGrid>
                <a:gridCol w="762120"/>
                <a:gridCol w="13716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 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7 10</a:t>
                      </a:r>
                      <a:r>
                        <a:rPr b="1" lang="en-GB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7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316 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1295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5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0666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higher beam energy =&gt; les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002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2743200"/>
          <a:ext cx="8686800" cy="275904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r the sam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/p acceptance + because of lower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 relaxing on 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2 ns instead of 1 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(goal)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347360" y="18288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ssive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880" y="579132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 is going on to check feasi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6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5341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With a linac-based driver there is the possibility to do multiple accumulations with a single linac beam pulse, and therefore generate multiple bursts of beam on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of interest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arameters are constant in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nel during the whole duration of the proton beam on the target (transverse focusing, gradient in the RF cavities…). It is not unreasonable to hope for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age ring is long enough to contain all the successive bur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disadvantage is that the kickers must provide multiple kicks within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his makes it possible to tailor the intensity per burst / the distance between bunches / the main cycling rate of whole facil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7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other approach using multi-pul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728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743200"/>
          <a:ext cx="8686800" cy="3417840"/>
        </p:xfrm>
        <a:graphic>
          <a:graphicData uri="http://schemas.openxmlformats.org/drawingml/2006/table">
            <a:tbl>
              <a:tblPr/>
              <a:tblGrid>
                <a:gridCol w="2050920"/>
                <a:gridCol w="3359160"/>
                <a:gridCol w="32767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72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me interval between 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8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7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4.2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44680" y="1295280"/>
            <a:ext cx="29606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un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732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4760" y="1295280"/>
            <a:ext cx="2960640" cy="110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nd divide f</a:t>
            </a:r>
            <a:r>
              <a:rPr b="1" lang="en-GB" sz="1600" spc="-1" strike="noStrike" baseline="-25000">
                <a:solidFill>
                  <a:srgbClr val="ff3300"/>
                </a:solidFill>
                <a:latin typeface="Arial"/>
              </a:rPr>
              <a:t>rep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b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new SPL design (CDR2 – 2006) is largely impro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(3.5 GeV) is a compromise that can potentially satisfy EURISOL, neutrino applications, and LHC upgrade scen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is more optimum (length reduced by 35% while the  energy is increased by 60%, higher instantaneous current reducing the number of turns for accumulation in the ring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grades are possible in terms of energy and/or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is typically illustrates the potential of a linac-based proton driver for a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factory, which has an unmatchable flexibility to adapt to the requirements of the following part of the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6. 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Re-design of the S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tage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cenarios for accumul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1. Re-design of the SPL (2005/6)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76520"/>
            <a:ext cx="405432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.2 MHz LEP RF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cavities, 1MW C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N neutrino facto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2 GeV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26708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in bulk Nb SC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accel.grad., pulsed 4-5 M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eam, superbeam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URISOL, P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752480"/>
            <a:ext cx="2514600" cy="129564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4419720"/>
            <a:ext cx="2514600" cy="129528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90512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72000" y="2438280"/>
            <a:ext cx="1523880" cy="60984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5105160"/>
            <a:ext cx="1523880" cy="60948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09680" y="1294920"/>
            <a:ext cx="990720" cy="381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352680"/>
            <a:ext cx="99072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2200" y="1143000"/>
            <a:ext cx="33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C technology has progressed a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9960" y="36576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Optimum energy is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685800"/>
            <a:ext cx="464796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SC linac replacing the 40 years</a:t>
            </a:r>
            <a:br>
              <a:rPr sz="1800"/>
            </a:b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old PS booster (1.4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09680"/>
            <a:ext cx="295272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 MW driver for EURI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 – 5 MW beam @ 1-2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343400"/>
            <a:ext cx="365760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ctory based o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4 - 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505320"/>
            <a:ext cx="295272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HC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n beam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x 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362320"/>
            <a:ext cx="367344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029200"/>
            <a:ext cx="803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upgrade of the proton injector complex at CERN [ performa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x higher brightnes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iability] for the benefit of all users (LHC, fixed target etc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time sharing between nuclear [ISOL]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for future increases in energy and/or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2.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895480"/>
            <a:ext cx="380988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a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1200" y="3886200"/>
            <a:ext cx="409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7090200">
            <a:off x="1713960" y="171396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078000">
            <a:off x="5890680" y="18190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848400">
            <a:off x="2833200" y="2517480"/>
            <a:ext cx="1828800" cy="30492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MeV test stand (beam in 2008)</a:t>
            </a:r>
            <a:endParaRPr b="0" lang="en-US" sz="20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3641760"/>
            <a:ext cx="2743200" cy="2158920"/>
          </a:xfrm>
          <a:prstGeom prst="rect">
            <a:avLst/>
          </a:prstGeom>
          <a:ln w="41400">
            <a:solidFill>
              <a:srgbClr val="0056ac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29000" y="3573360"/>
            <a:ext cx="2590920" cy="23036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2360520" cy="26780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609480"/>
            <a:ext cx="2313000" cy="261648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cxnSp>
        <p:nvCxnSpPr>
          <p:cNvPr id="77" name=""/>
          <p:cNvCxnSpPr>
            <a:endCxn id="73" idx="0"/>
          </p:cNvCxnSpPr>
          <p:nvPr/>
        </p:nvCxnSpPr>
        <p:spPr>
          <a:xfrm>
            <a:off x="1295280" y="2133720"/>
            <a:ext cx="457920" cy="1488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8" name=""/>
          <p:cNvCxnSpPr/>
          <p:nvPr/>
        </p:nvCxnSpPr>
        <p:spPr>
          <a:xfrm>
            <a:off x="2209320" y="2133720"/>
            <a:ext cx="122004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>
            <a:off x="2437920" y="2133720"/>
            <a:ext cx="388692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81" idx="3"/>
            <a:endCxn id="76" idx="1"/>
          </p:cNvCxnSpPr>
          <p:nvPr/>
        </p:nvCxnSpPr>
        <p:spPr>
          <a:xfrm flipV="1">
            <a:off x="4419720" y="1917000"/>
            <a:ext cx="1962720" cy="10548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7008120" y="62485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cher ca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4360" y="601992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pper in quadru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040" y="59436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HI RFQ (C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3240" y="1522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1447920"/>
            <a:ext cx="388620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1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838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nac4 (beam in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52608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19160" cy="213516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514600" cy="24145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709720" cy="201780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7640" y="6019920"/>
            <a:ext cx="26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P Moscow &amp; VNIIEF Sa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IN2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000" y="609588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P Novosibirsk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IITEF Snezin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2320" y="59436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2P3, BINP, CEA, VNIIT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6960" y="798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w duty cycle: 0.0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0" idx="0"/>
          </p:cNvCxnSpPr>
          <p:nvPr/>
        </p:nvCxnSpPr>
        <p:spPr>
          <a:xfrm flipH="1">
            <a:off x="1713960" y="2286000"/>
            <a:ext cx="170244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8" name=""/>
          <p:cNvCxnSpPr>
            <a:endCxn id="91" idx="0"/>
          </p:cNvCxnSpPr>
          <p:nvPr/>
        </p:nvCxnSpPr>
        <p:spPr>
          <a:xfrm>
            <a:off x="4572000" y="2285640"/>
            <a:ext cx="115200" cy="1353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9" name=""/>
          <p:cNvCxnSpPr>
            <a:endCxn id="92" idx="0"/>
          </p:cNvCxnSpPr>
          <p:nvPr/>
        </p:nvCxnSpPr>
        <p:spPr>
          <a:xfrm>
            <a:off x="5409720" y="2286000"/>
            <a:ext cx="219492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100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2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51600" cy="246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106668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PL (beam in 2015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208240" cy="25243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17680" y="3770280"/>
            <a:ext cx="5045040" cy="2401920"/>
          </a:xfrm>
          <a:prstGeom prst="rect">
            <a:avLst/>
          </a:prstGeom>
          <a:solidFill>
            <a:srgbClr val="c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of Linac4, adding 366 m of SC 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booster becomes obsol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y power &lt; 1 M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LA/ILC type cryostats (INFN Milano)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cell SC Nb cavities (CEA/INFN) and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upo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and beam dynamics (CEA Sac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666880"/>
            <a:ext cx="30456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3960" y="2666880"/>
            <a:ext cx="15228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3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4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6858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Beam dynamics (CEA Saclay)</a:t>
            </a:r>
            <a:endParaRPr b="0" lang="en-US" sz="18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162600" cy="26830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162240" cy="19936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217680" cy="268776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191120"/>
            <a:ext cx="3244680" cy="200160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76760" y="6172200"/>
            <a:ext cx="24818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advance per m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74480" y="6172200"/>
            <a:ext cx="193176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anc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55120" y="3733920"/>
            <a:ext cx="167112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5920" y="3733920"/>
            <a:ext cx="1953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has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5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28:16Z</dcterms:created>
  <dc:creator>gerigk</dc:creator>
  <dc:description/>
  <dc:language>en-US</dc:language>
  <cp:lastModifiedBy>garoby</cp:lastModifiedBy>
  <dcterms:modified xsi:type="dcterms:W3CDTF">2006-01-19T07:21:08Z</dcterms:modified>
  <cp:revision>46</cp:revision>
  <dc:subject/>
  <dc:title>Slide 1</dc:title>
</cp:coreProperties>
</file>